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wmf" ContentType="image/x-wmf"/>
  <Override PartName="/ppt/media/image9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122-4161-4325-9352-21C22C39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9A8-0DA1-4191-B96E-17F69D16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954-DE50-4F92-B723-DB10F949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77B-92E4-4E95-8445-20F1FFF8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8FB-C461-4872-B902-2C41EEB6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D0F-D046-403A-8029-CFD6D146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5CE-1AD9-468D-B4C9-1E5AE482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2EA-1327-4B3D-AEDC-4C5EDA4C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F86-FC4F-427E-A227-FC4825B8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FD8-8359-4531-9B68-2199E350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0FB-FDAE-427B-AC87-E6275D3D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3E6-24DF-4DE3-85B3-57765968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5AD5-FA39-4BF2-8C33-677D5ACAE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person who settles or makes a home in a new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Pioneer new c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Old T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se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set.tl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3480" y="1981080"/>
            <a:ext cx="2957760" cy="1981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51320" y="4114800"/>
            <a:ext cx="2602080" cy="1981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angler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Cow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Roper, Vaquero, Laz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nt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Unexpected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New or non terr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fro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front.i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3733920" cy="2438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one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People who are the first to settle in a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ett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Pi.on.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95680" y="2643120"/>
            <a:ext cx="3179880" cy="2386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ri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: A region or area of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onyms: Homestead or l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onyms: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Word: Tier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lection: 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llable: terr.it.or.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1789200" cy="2361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4120" y="4419720"/>
            <a:ext cx="2355840" cy="1981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ntur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Travelers in search of unusual or exciting exper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s: Searcher or experi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yms: Stay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Word: ven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ection: ers and o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lable: ad.ven.tur.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96208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572000" y="5181480"/>
            <a:ext cx="1809720" cy="1193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010280" y="4267080"/>
            <a:ext cx="1649520" cy="1646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Sticking to a purpo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tubrun or pressi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Give or ga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de.ter.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83200" y="2208240"/>
            <a:ext cx="2940120" cy="3660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Equip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tu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N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748480" y="1981080"/>
            <a:ext cx="1608120" cy="198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57800" y="4695840"/>
            <a:ext cx="1676520" cy="1247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port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: A good ch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onyms: 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onyms: No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Word: opport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lection: 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llable: op.por.tun.it.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817640" cy="1352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195120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19920" y="3657600"/>
            <a:ext cx="2706480" cy="2971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n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: Changed animal hide leather by soaking it in chem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onyms: Softe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onyms:  N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Word: 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lection : 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llable: tan.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9-01-30T21:18:29Z</dcterms:modified>
  <cp:revision>17</cp:revision>
  <dc:subject/>
  <dc:title>PowerPoint Presentation</dc:title>
</cp:coreProperties>
</file>